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13F-5CFF-489F-A0AD-54C5BAA4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BAA-B537-4467-9CDD-D2695CF3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C37-EB30-45EB-AE89-9CD342A5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0D2-44AE-494D-9069-287AE137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702-8FA8-4038-B9CF-2BE5A388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621-5734-49BD-B3E7-78BFB353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2C7-47DD-4F54-B36F-70E4BF9D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6AC-F1D7-4D8C-9E2E-16C05974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3BC-CDB8-4626-8164-A66C7BAF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0A6-36F8-4422-939C-BF2DC4EE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478-491F-427D-B2E5-35F87B8D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D2F-A98F-49AF-A744-6EB828F8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EA97-8EC6-400C-87AE-EB0215F65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981000"/>
            <a:ext cx="443844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Hous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43232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485640"/>
            <a:ext cx="8208720" cy="553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67240" y="5532480"/>
            <a:ext cx="382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663300"/>
                </a:solidFill>
                <a:latin typeface="Bauhaus 93"/>
              </a:rPr>
              <a:t>bedro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0" y="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04760" y="752400"/>
            <a:ext cx="7134480" cy="535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2720" y="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58514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9999"/>
                </a:solidFill>
                <a:latin typeface="Arial Black"/>
              </a:rPr>
              <a:t>Kitch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7600" y="762120"/>
            <a:ext cx="7048800" cy="53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200" y="-9828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5080" y="5851440"/>
            <a:ext cx="377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9900"/>
                </a:solidFill>
                <a:latin typeface="Arial"/>
              </a:rPr>
              <a:t>Bathro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7056360" cy="564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692280"/>
            <a:ext cx="108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4720" y="594360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3300"/>
                </a:solidFill>
                <a:latin typeface="Arial"/>
              </a:rPr>
              <a:t>Living ro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134120" cy="535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2360" y="162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2880" y="5759280"/>
            <a:ext cx="511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9900"/>
                </a:solidFill>
                <a:latin typeface="Arial"/>
              </a:rPr>
              <a:t>Dining ro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92360" y="26676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720" y="5493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33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7080" y="5157720"/>
            <a:ext cx="228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660033"/>
                </a:solidFill>
                <a:latin typeface="Arial"/>
              </a:rPr>
              <a:t>Ha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9:56:49Z</dcterms:created>
  <dc:creator>I.E.S. FEDERICO GARCIA LORCA</dc:creator>
  <dc:description/>
  <dc:language>en-US</dc:language>
  <cp:lastModifiedBy>I.E.S. FEDERICO GARCIA LORCA</cp:lastModifiedBy>
  <dcterms:modified xsi:type="dcterms:W3CDTF">2009-04-22T10:22:27Z</dcterms:modified>
  <cp:revision>2</cp:revision>
  <dc:subject/>
  <dc:title>Diapositiva 1</dc:title>
</cp:coreProperties>
</file>